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86026"/>
        <c:axId val="74789895"/>
      </c:barChart>
      <c:catAx>
        <c:axId val="91786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89895"/>
        <c:crosses val="autoZero"/>
        <c:auto val="1"/>
        <c:lblAlgn val="ctr"/>
        <c:lblOffset val="100"/>
        <c:noMultiLvlLbl val="0"/>
      </c:catAx>
      <c:valAx>
        <c:axId val="74789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86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BFF-0F31-4302-8BD6-955A7903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A42-0170-4FB4-8990-AE929458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A5D-CB34-42D2-AA46-BA4BC077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34F-459C-45AF-8988-E8084D5D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86B-32AC-4E42-AD2C-E9C47731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4E2-2655-4EF8-B20D-74CD1E83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CBB-2369-472C-81F5-B0A87F5B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18B-AFDD-4BA0-8BB1-1C6CCA56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10B-1B94-4D2E-9728-BC5D9DC3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E0C-B367-47E7-B706-77F6774F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418-408B-49CF-8A07-2AA9AFA5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83C-ED27-443F-883C-F941B4B5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951C5-7DF0-4D41-BF1D-CAFE29E5C1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