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3793"/>
        <c:axId val="22114389"/>
      </c:barChart>
      <c:catAx>
        <c:axId val="9203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14389"/>
        <c:crosses val="autoZero"/>
        <c:auto val="1"/>
        <c:lblAlgn val="ctr"/>
        <c:lblOffset val="100"/>
        <c:noMultiLvlLbl val="0"/>
      </c:catAx>
      <c:valAx>
        <c:axId val="2211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3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538-6ED9-4662-94F6-D5AA1AB2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8C2-2133-4D33-B302-1692AB4C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3D4-252F-45E1-B72D-FAC07034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6EA-56F5-41C0-9C3A-FB960339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DDB-6AA2-4746-BF35-7BAC426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10C-47B5-435C-8FD5-F4A6314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0C3-7AB3-43BC-BD5A-6CB920D3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975-58E5-4333-814C-48365EC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1A1-E470-4BE5-A6EF-6563E96C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A24-EA63-4718-A7CB-D76DA29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BB3-1AE0-49E3-80A0-94FF7B5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429-CC4D-4062-A1BA-14D09AB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C83B5-9C99-4A3B-AA86-E735DFDF8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