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59101"/>
        <c:axId val="21011451"/>
      </c:barChart>
      <c:catAx>
        <c:axId val="89359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11451"/>
        <c:crosses val="autoZero"/>
        <c:auto val="1"/>
        <c:lblAlgn val="ctr"/>
        <c:lblOffset val="100"/>
        <c:noMultiLvlLbl val="0"/>
      </c:catAx>
      <c:valAx>
        <c:axId val="21011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59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767-DEB1-44AB-BEEC-D8B4B9B9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08C-9992-43DA-A1CC-876CFCAA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590-4A96-484D-8D99-C97C833B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AFA-7F39-48EC-A972-24CBACEE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730-2978-4AFC-A09E-A3D2AD85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F2B-6734-4058-852B-B042886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B8-311D-4617-81B3-B8B86DB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14A-E73B-494F-9871-E8F6AFDD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4AC-E4FA-470E-9582-2F84B974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218-883D-40A8-9E89-4AE8A76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3EA-18DF-4C18-A506-836CC29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75B-C787-4047-8A4F-64EE917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F7CA3-CE1A-46C5-8658-D1EE4148CE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