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53022"/>
        <c:axId val="36830965"/>
      </c:barChart>
      <c:catAx>
        <c:axId val="85653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30965"/>
        <c:crosses val="autoZero"/>
        <c:auto val="1"/>
        <c:lblAlgn val="ctr"/>
        <c:lblOffset val="100"/>
        <c:noMultiLvlLbl val="0"/>
      </c:catAx>
      <c:valAx>
        <c:axId val="36830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53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08D-68C4-4DF3-87E2-E8B758C1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93B-7827-4CD6-BC17-D8DF27DD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E4D-07EC-4EA4-A7C0-39456D26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CC1-EFC7-42D4-A0FD-A26F0E3A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F5E-8C06-4CDE-990F-4CFADE4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57E-AE9B-4857-9402-0C44A34E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BD0-6CED-48F0-BC34-928C79C9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D7D-E38A-4158-A127-5462CFC5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4FC-D218-433C-A1E8-F1883C7D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ED6-E225-4105-8DF4-69414D6C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23A-821F-4476-9076-6CC177A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8FB-E40D-41E4-AC8C-55308FB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B49B4-EB13-400C-99C4-A0099EC60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