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82092"/>
        <c:axId val="88700488"/>
      </c:barChart>
      <c:catAx>
        <c:axId val="76682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0488"/>
        <c:crosses val="autoZero"/>
        <c:auto val="1"/>
        <c:lblAlgn val="ctr"/>
        <c:lblOffset val="100"/>
        <c:noMultiLvlLbl val="0"/>
      </c:catAx>
      <c:valAx>
        <c:axId val="88700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82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601-4800-4887-A20E-AB1BCABD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5CB-397B-4AA9-BE1A-DCBB715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EA2-4AA9-4D64-B044-7C72ED1B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9A4-D706-4A96-BF74-96D2D21E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CE1-ED4F-433A-A140-52454B4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0F2-F887-4E33-9AB2-0AE2238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C2A-9C1B-49FF-8EB9-76BD685F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247-8C5E-4757-8806-307CBE8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7A9-1E8F-4C2C-8E3D-9F662BE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02B-3EC6-4B53-876B-F12D3EF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CD6-AE31-48B3-B68E-5376410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032-EF56-447A-AB8A-40467A0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6256C-4B09-4A78-A859-938733D797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