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00092"/>
        <c:axId val="45893828"/>
      </c:barChart>
      <c:catAx>
        <c:axId val="26700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93828"/>
        <c:crosses val="autoZero"/>
        <c:auto val="1"/>
        <c:lblAlgn val="ctr"/>
        <c:lblOffset val="100"/>
        <c:noMultiLvlLbl val="0"/>
      </c:catAx>
      <c:valAx>
        <c:axId val="45893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0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FE6-865A-48C7-B0B1-375DCEA4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117-3B9F-4683-86A1-9ADD24BA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3A5-99A7-4A07-84F7-CD885CCB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9B4-28EB-41C2-B83D-2F26C0CD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4CD-E6DC-453A-B3B5-55A2BCC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5F4-8DA5-4548-A8F3-9ABA9ABF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DEA-7834-4F57-A57F-6B8C0C7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F51-B2B3-48E3-8BFE-AE0F93AC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523-F788-463B-BA59-DF0AF6A7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C92-92FD-4C19-AE75-701B0AF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4C4-6931-44A3-9CFA-5671AAD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EAF-9BC3-41E2-833B-7D97DD1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F76E9-3669-4A81-AF3D-F62C334BE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