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71758"/>
        <c:axId val="93486663"/>
      </c:barChart>
      <c:catAx>
        <c:axId val="94271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86663"/>
        <c:crosses val="autoZero"/>
        <c:auto val="1"/>
        <c:lblAlgn val="ctr"/>
        <c:lblOffset val="100"/>
        <c:noMultiLvlLbl val="0"/>
      </c:catAx>
      <c:valAx>
        <c:axId val="93486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71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AE9-DC64-4605-BF02-C19C6FFD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67F-19BB-4853-A661-216890E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5A6-0AFC-4059-9D0B-7444AB85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DC8-C35B-4DD4-BCAA-AF4D3B59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06D-D18A-4ACB-98DA-11F21C97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C25-4668-41ED-8636-311084CD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F18-3B14-4C8E-A0C2-CC110E98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FE3-B10F-4D46-A6E6-E221C8A5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5FB-D2C0-407E-9A99-D6D4342A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E02-1272-466C-A928-A79CF5D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96F-F0AA-4FDF-8C5A-6C8EE8F4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4EB-BF87-41FD-9BC7-2802314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3636D-FAEB-4684-8D15-82C5B4253A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