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246166"/>
        <c:axId val="65839550"/>
      </c:barChart>
      <c:catAx>
        <c:axId val="55246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39550"/>
        <c:crosses val="autoZero"/>
        <c:auto val="1"/>
        <c:lblAlgn val="ctr"/>
        <c:lblOffset val="100"/>
        <c:noMultiLvlLbl val="0"/>
      </c:catAx>
      <c:valAx>
        <c:axId val="658395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246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D8D4-AF97-4EC4-877E-B2308D7E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E51-2B5C-42A4-AE05-0DB96B68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134D-EF99-43E0-ADE9-861AEAFF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422E-743B-44E9-9522-9EC4E382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A47-D7B0-4A50-90B4-7228C5BD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8995-564F-4DB8-9D6D-90B82DD2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5B6-D556-45CE-81AF-E614EE3B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5BCA-DD21-4BCA-8914-D500F56E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EBE5-AADA-4EB1-8794-6A24B290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A05F-47DB-4555-A928-E9195C9D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1D96-64C7-4F26-A3AD-4284EDC8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096-CBDE-4EA3-9666-9D6E3C8D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8018E-49DE-497E-81C2-3506B5DB50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